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73C-A5FC-4EEC-A0F3-98D8DF20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DE6-42FF-4ECD-AE13-51C3E89A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EDB-D8E0-4AC5-928C-ABEA072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56B-30E5-4A2A-A388-2997329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9B4E-72C8-4111-ADA1-81885554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4E38-B4E2-4A42-802D-0685855D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C820-41BC-498B-8ECD-53170DCF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30C5-9902-4B0F-A7DA-222C2A6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FF1-4E71-407A-9E7B-369526D4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0AF0-2A9B-4D1C-ADA7-06EA654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86FB-3BA2-4C9C-9570-A932450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7A2-B8DC-4EE1-A5C7-DB3AFA1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F10-51AF-4193-8040-5B43AE5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DBC6-9333-48A9-AEFC-4C9DD0F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DA77-CA09-4FAF-981B-F42CAF2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3551-DEF5-45FF-BDF9-0FBCCEF0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D3CB-DEBD-44B1-A254-4C66BC3B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E3B-3BF5-4270-8FD5-8B8840A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FDC-743F-4EB6-BEA7-3F997D0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21B-A4EC-4707-8535-9B67D51D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E4F-60D8-4946-81F6-A9AE367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3EB-AA32-4E93-BFD9-2C7BD951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3E8-3BDF-4D13-BC4E-2135E3A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86A-2EB2-4A06-B0E4-094800E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C5EF-48DB-4EE5-B963-A5E1205FD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B172-A1FE-46E1-8733-A6353BB3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LEA:  Language Experience Approach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. Kristen Pennycuff T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Turn:  Create an LEA for your third grade students who have just returned from a field trip to the fire station.  Remember to include all the ste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igsaw the sample lesson plan for L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t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t te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t-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sure-Assessment and Eval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lemental Activities-Reflection of the Candi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 interrelates the different language arts and uses the children’s experiences as the basis for reading materi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children have experiences that can be converted to st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crete experiences can be provided to help create the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ies developed by childre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tivat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meaningful  because language of the children us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ffectively used for ELL children: provides material they can underst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nguage Experience Approach LE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371600"/>
            <a:ext cx="815328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see transformation of oral language to print including directionality, spacing between words, meanings, punctuation, and capit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see relationships between reading and their oral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er observations during dictation and reading provide diagnostic insights into children’s reading difficul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 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ety of modes of learning offers something to all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ditory: dictation or read alo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sthetic: writing the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sual: reading s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s good self-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they have to say is important enough to write down and others interes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otes close contact between teacher and stud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dial older learners and ELL consider this reading more authentic than some of the remedial material exposed to in classro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llent way to provide variety of programs that are need to teach rea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ation in Kindergart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oral language can be recorded and reconstruct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writing—choose topics, discussion, drawing, and dramatic play before writing, draft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aching of vocabulary, decoding, and comprehension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-and-tell writing—invented sp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guage Experience Approach-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28600" y="1066680"/>
            <a:ext cx="8610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n the Primary Grad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a 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ticipation in extension activities related to the s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reading s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ding wo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ching sentences with sentence str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ord bank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—word cards containing words a child has used in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718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d for sight vocabulary, word recognition skills, and develop comprehension skil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ing of Computer-generated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lustration of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ing of sto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7146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ion of boo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guage Experience Approach-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04920" y="1295280"/>
            <a:ext cx="853416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in Higher Grad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t area instruc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ing the result of scientific experi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aring and contrasting people, things, or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ing directions for performing a ta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-generation importa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ter stories easily, ease of revision without recopy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ct teaching of story structure during LEA helpful to older remedial learn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e revision and editing as natural exten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nguage Experience Approach: L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a common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ng the exper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ve writing of the story on a chart, board, or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ipating in extension activities related to the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1:12:06Z</dcterms:created>
  <dc:creator>Shane  Trent</dc:creator>
  <dc:description/>
  <dc:language>en-US</dc:language>
  <cp:lastModifiedBy>Trent Family</cp:lastModifiedBy>
  <cp:lastPrinted>2010-09-10T15:39:49Z</cp:lastPrinted>
  <dcterms:modified xsi:type="dcterms:W3CDTF">2010-10-28T13:37:11Z</dcterms:modified>
  <cp:revision>54</cp:revision>
  <dc:subject/>
  <dc:title>Major Approaches and Materials for Reading Instruction</dc:title>
</cp:coreProperties>
</file>